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1CB-C03E-4670-AE08-481E621A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E98-59E1-4354-A603-BFBEA1D4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253-4305-4D26-9E2F-085D7F79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6FF-B46D-4191-B1F4-27A0811E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E55-9972-439C-B99A-4839A74C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AD4-CB9F-49B2-B35D-13C839F8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CF0-2BFA-40E3-8491-9C6ED345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BC9-86D7-46EC-8C97-1AC59FD5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FDD-CC9C-41D5-A708-69C309E6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F03-8D31-4809-9847-7606AC34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FF5-A9BD-4802-A683-E743B644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CD1-7A39-4553-9538-D261D732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6F55-3571-4FB4-8A12-6173B3F1CD8B}" type="slidenum">
              <a:rPr b="0" lang="he-I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rucic acid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350496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71600" y="4769640"/>
            <a:ext cx="38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ucic ac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F78-31FC-4527-9E7E-5DD0965780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חומצה הארוקית היא חומצה שומנית, חד בלתי רוויה, עם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אטומי פחמן אומגה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,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:1n9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. בשמן קנולה מגיע ריכוז החומצה הארוקית ל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4.1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, ואחרי עיבוד יורד הריכוז ל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. העיבוד כולל  החלפת החומצה הארוקית בשמנים הנגזרים מהחומצה האולאית (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). בשמן מזרעי חרדל ריכוז החומצה הארוקית הוא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42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). ניתן להשתמש בה כמקור לביו-דיזל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שם ארוקית ניתן לחומצה כי מצאו אותה לראשונה בצמח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uca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-בן חרדל. היא נפוצה בכמה צמחים ממשפחת המצליבים. היא מיוצרת בצמח על ידי התארכות של חומצה אולאית בסיוע של שני אנזימים (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). בגוף האדם, החומצה נשברת בכבד לחומצות שומניות קצרות יות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591-B24F-459E-8BC2-5D4F9D36AF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ין הסכמה לגבי בטיחות השימוש בחומצה הארוקית כחלק מהתזונה. יש חוקרים שטוענים שיש לה השפעה מגינה על הלב, אחרים טוענים שהיא מזיקה (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ניסויים שנעשו על עכברים וחולדות הראו נזק רב שנגרם לחיות. ישנם חוקרים הטוענים שעכברים וחולדות אינם מעכלים שמן צמחי, גם ללא חומצה אירוקי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איחוד האירופי וארצות נוספות אסרו על שימוש בשמן חרדל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184-21A9-47A2-8A34-476282930C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תערובת של חומצה אולאית וחומצה ארוקית ביחס 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4:1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נותנת שמן הנקרא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enzo's oil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. משתמשם בשמן הזה כטיפול ניסיוני במחלה  נדירה של מערכת העצבי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הנקרא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renoleukodystrophy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. אצל המטופלים בשמן לורנזו מצאו   מספר קטן של טסיות דם- תרומבוציטופניה (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שמנים המכילים ריכוז גבוה של חומצה ארוקית אינם מומלצים בתקופת ההנקה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871-AFB7-4B66-BFB4-38E7C6388C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hahsrabudhe MR. Crismer values and erucic contents of rapeseed oils. J. of American Oil Chemists Society, 1977, 54: </a:t>
            </a: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323-32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d J. Anneken S. Cristoph R. et al. Fatty Acids in Ullmann's Encylopedia of Industrial Chemistry 2006, Wiley-VCH Weinhe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o Xiaoming, Pollard M. Ohlrogge J. The Biosynthesis of Erucic Acid in Developing Embryos of Brassica RAPA. Plant Physiol. 118: 183-19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 Standards Australia New Zealand, June 2003, Erucic acid in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wther MA. Barr RD. Kelton J. et al. Profound thrombocytopenia complicating dietary erucic acid  therapy for adrenoleukodystrphy. American J. of Hematology, 1995, 48: 132-13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BD4-9E83-493A-8265-857F921F52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14:59:19Z</dcterms:created>
  <dc:creator>Mina</dc:creator>
  <dc:description/>
  <dc:language>en-US</dc:language>
  <cp:lastModifiedBy>Mina</cp:lastModifiedBy>
  <dcterms:modified xsi:type="dcterms:W3CDTF">2013-05-19T11:20:13Z</dcterms:modified>
  <cp:revision>10</cp:revision>
  <dc:subject/>
  <dc:title>Erucic acid </dc:title>
</cp:coreProperties>
</file>