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241-BE5E-426B-A8E3-CF88100D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410-2B51-4A1E-9FFF-31A769AD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9A8-B645-40BF-87BD-04DBB3D1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AC6-492D-4DE5-999A-D8D8EB34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4DE-B357-4FCC-9BEB-C81EADEA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219-B41A-49A2-ABCF-811EA56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C21-7249-4F82-9394-012F2E87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702-AC8C-4021-B2E6-72F6D801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546-2A78-430C-8D5D-6B2849FD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6A0-0524-46F2-A674-D6495D3C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A75-8C43-43A5-971C-BC150824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F63-A3CE-42A5-A029-47533566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33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CA02-ECFB-4DCA-8959-B24265E1BFDE}" type="slidenum">
              <a:rPr b="0" lang="he-IL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tric oxide -N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וא חומר במצב של גז , בעל השפעות פיזיולוגיות ופתולוגיות רבות אצל בעלי חיים וצמחים (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)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קבל את ההכרה של עולם המדע בשנת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1992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, וכינו אותו המולקולה של השנה (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). כמה שנים אחר כך, ב-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1998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, קבלו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מדענים פרס נובל על הגילוי ש-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וא  מולקולת איתות במערכת הקרדיו-וסקולרית. המדענים הם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. Furchgot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. Ignarro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ו-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. Murad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(3)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9C6-9D5C-4920-BCB2-56EEAAB66F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333399"/>
                </a:solidFill>
                <a:latin typeface="Arial"/>
              </a:rPr>
              <a:t>מקורות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sra AN. Misra M. and Singh R. Nitric oxide biochemistry, mode of action and signaling in plants. J. Medicinal Plants Research, 2010, 4: 2729-2739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oshland JDE. The Molecule of theYear. Sci. 1992, 258: 1861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mattina L. Garcia-Mata C. Graziano M. et al. Nitric oxide: the versatility of an extensive signal molecule. Annu. Rev. Plant Biol. 2003, 54: 109-136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ligni MV. Lamattina L. Is nitric oxide toxic or protectve? Trends in Plant Sci. 1999, 4; 299-306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u X. Miller MJS. Joshi MS. et al. Accelerated reaction of nitric oxide with O2 within the hydrophobic interior of biological membranes. Proc. Nat. Acad. Sci. USA, 1998, 95: 2175-2179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uang X. Steittmaier K. Michel C. et al. Nitric oxide is induce by wounding and influences jasmonic acid signailing in Arabidopsis thaliana. Planta, 2004, 218: 938-952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rause M. Dumer J. Harpin inactivates mitochondria in Arabidopsis suspension cells. Mol. Plant-Microbe Interact. 2004, 17: 131-139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uo FQ. Okamoto M. Crawford NM. Identification of a plant nitric oxide synthase gene involved in hormonal signaling. Science, 302:100-103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shem YY. Nitric oxide in biological systems. Plant Growth Regulat. 1996, 18: 155-159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9B6-33DE-48F2-8907-DEA64E4918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נוצר בצמחים בכמה אופנים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בדרך אנזימטית, על ידי האנזים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 Synthetase- NO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ניטריטים. הראו ייצור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מניטריטים ב-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lycine max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–סויה, בחמניות-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lianthus annuus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ובאצות ירוקיות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בצמחים רבים מיוצר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מניטרט באמצעות האנזים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itrate reductase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, ואח"כ הפיכת הניטרט לניטריט ע"י האנזים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itrite reductase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(1)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. אנזים זה מצוי בחלקים שונים של תאי הצמח, כגון, בממברנות, במיטוכונדריה, בציטוזול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הוא רדיקל חופשי, והוא עובר מטבוליזם או מורחק בדרך אחרת במהירות רבה, מיד לאחר שסיים את פעילותו. הוא אינו יציב. הוא מתחבר עם חמצן ויוצר ניטריט או ניטרט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C66-C92A-4165-A32D-C59148013A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מתפקד בצמח כמולקולת איתות אנדוגנית המתווכת בתהליכים פיזיולוגיים, כגון, הגנה מפני פתוגנים, פריחה, מוות מתוכנן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ייצור של קסילם- תעלות בהן זורמים הנוזלים בתוך הצמח, ומתפתחות בהן דפנות מליגנין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וויסות של סגירת הפיוניות בתנאים של יובש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כוונה של צמיחת חלקי הצמח בהתאם לכוח המשיכה. יכל להיות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ropism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חיובי או שלילי. השורש צומח לפי גרביטרופיזם חיובי ואילו הגבעול צומח לפי גרביטרופיזם שלילי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D0F-9593-40AC-8301-81DE99E3A8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במצבים מסוימים משתחרר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בריכוזים גבוהים בהרבה מזה שנדרש לקיום ההשפעות הביולוגיות שלו. בריכוזים נמוכים הוא מעודד צמיחה, בריכוזים גבוהים הוא מעכב צמיחה ויש בו רעילות (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) לא מצאו קולטן בצמח הקושר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ולא ידוע המנגנון המדויק לפיו המולקולה משפיעה על הצמח.  יתכן שיש כמה מנגנונים הקשורים למיקום התוך-תאי, ולמרכיבים המצויים בסביבה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יכל להתקשר לקבוצות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של תיול או גלוטטיון, להתחבר למתכות או לחלבונים (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F6A-A817-43AB-86F3-745BFA9428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תנועת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 בצמח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יכל לנוע בתוך התא ממקום של סינתיזה לאזורים אחרים בהם הוא יכל לעורר פעילות על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ידי התחברות לחלבונים מסוימים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וא יכל לנוע אל מחוץ לתא כשהוא עובר דרך הממברנה הפלסמטית,  להכנס לתאים שכנים, ולארגן בסביבה קבוצה של תאים המגיבים ל-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. מכיוון שהוא ליפופילי הוא יכל להצטבר בתוך הממברנה של התא וגם לנוע דרכה מבלי שהיא תחסום אותו (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73C-FD23-46F9-B389-3017A31B34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השפעה של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 על גני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הראו השפעה של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על כמה גנים בצמח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abidopsis thaliana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השפעה על גנים אינה מתבטאת בשינויים מטבוליים מיידיים, אבל התוצאה הסופית היא תגובה פיזיולוגית של התא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המחקרים הראו ש-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מעורב בכל תגובה שקשורה למצבי עקה בצמח (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he-IL" sz="2800" spc="-1" strike="noStrike">
                <a:solidFill>
                  <a:srgbClr val="333399"/>
                </a:solidFill>
                <a:latin typeface="Arial"/>
              </a:rPr>
              <a:t> ופציעה של הצמח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כשפצעו את האפידרמיס של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abidopsis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התקבלה התפרצות של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בתוך דקות, שבעקבותיה התחילו לפעול כמה אנזימים (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DEE-05C7-4E6C-8D04-BCACC08EA1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תגובה של צמחים לזיהום עם פתוגנים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צמחים מגיבים לזיהום על ידי פתוגנים בכך שהם מעוררים תגובה מקומית ומערכתית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תגובה המקומית מאופיינת על ידי התפתחות של פצעים כתוצאה של מוות מתוכנן של תאים, או אפופטוזיס המגביל גידול או פיזור של הפתוגן (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ההשפעה על ביטוי הגן מתבטאת בשחרור של אנזימים הפועלים נגד מיקרואורגניזמים, ובייצור מטבוליטים מישניים, כגון, פיטואלקסינים שהורגים את הפתוגנים (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משתתף במקרים אלה בכך שהוא מעורר את ביטוי הגנים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864-6AFB-470C-A983-0DE0827DCB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הגנה בכלורופלסטי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מגן על הכלורופלסטים מפני הרס על ידי קרניים אולטרה סגוליות. הראו הגנה על כלורופלסטים בעלים של שעועית, על ידי הגברה של פעילות של אנזימים אנטי אוקסידנטים כגון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peroxide-dismutase, ascorbate peroxidases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talases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99"/>
                </a:solidFill>
                <a:latin typeface="Arial"/>
              </a:rPr>
              <a:t>השפעה על רביית הצמחים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מווסת תהליכי רבייה בצמח. הראו ש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abidopsi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שטופלו עם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 פרחו מוקדם יותר מאשר צמחי הבר (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). מחקרים אחרים הראו ויסות של צמיחת מאבקים והתחלה של תרדמת זרעים (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668-F62D-4D37-BAD2-FBC6AC1FDD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מחקרים נוספים המתפרסמים בשנים האחרונות מראים פעילויות  נוספות המווסתות על ידי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. המחקר הראשון התפרסם בשנת 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1996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). הוא הראה ש-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משפיע על צמיחה של עלים, שורשים וכן על ייצור של פיטואלקסינים (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עבודות אחרות הראו ויסות של צמיחה של נצרים, של חלוקת תאים, ייצור של קסילם, יחסי גומלין עם חיידקים קושרי חנקן, סגירה של הפיוניות  והתפתחות של שורשים (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לסיכום, הידע שהצטבר בשנים האחרונות על המיקום והפעילות של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 מראה שזוהי מולקולה בעלת פעילות מגוונת מאד, שעוברת בקלות לכל מקום על פני התא הצמחי, ומשפיעה על תהליכים רבים דרך איתות המעיר אנזימים ומרכיבים רבים לפעולה (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he-IL" sz="28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398-B7D0-4E8F-99FC-0600B38195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3:52:33Z</dcterms:created>
  <dc:creator>Mina</dc:creator>
  <dc:description/>
  <dc:language>en-US</dc:language>
  <cp:lastModifiedBy>Mina</cp:lastModifiedBy>
  <dcterms:modified xsi:type="dcterms:W3CDTF">2013-05-19T12:06:48Z</dcterms:modified>
  <cp:revision>20</cp:revision>
  <dc:subject/>
  <dc:title>Nitric oxide -NO </dc:title>
</cp:coreProperties>
</file>